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2959-6A75-4FB7-A25C-2DA55B66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FD7A-22B6-41D1-AE57-EF9EECFE0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8B2-B2EB-44F3-8CD2-92EF56DC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4F1-1CFB-4BE7-88BA-D74BB05F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328-70B7-44E0-B949-566CA5B0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475-AC58-425C-B673-CC89722A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341-9794-495A-9685-F9B5BBE9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444-958B-462D-8929-6D33967C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BA5-DF19-48BD-9B50-8EDAA5E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7B9-0ACD-44C1-8506-B8D9C987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2E6-1FA9-441B-A01B-0EC76351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050-3D19-4790-95B9-C3568542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A1B-B31E-43CE-9BC0-A35BD996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AAB-7BFC-4B91-B7C8-16A02105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F981-35A3-42BB-83B0-CB87D1B6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dia Ud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dia Udd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dia Udd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19520" y="1143000"/>
            <a:ext cx="83808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Sadia Uddin. Yo tengo catorce años y vivo en New York. Yo soy joven y amo Uno Dirección y música. Yo soy tímida pero divertida. Yo soy encantadora y entusiástica.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6"/>
          <p:cNvSpPr/>
          <p:nvPr/>
        </p:nvSpPr>
        <p:spPr>
          <a:xfrm flipH="1">
            <a:off x="129456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2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4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819520" y="396252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35268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5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81952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457200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6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819520" y="52578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7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819520" y="5943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Como estas? 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2"/>
          <p:cNvSpPr/>
          <p:nvPr/>
        </p:nvSpPr>
        <p:spPr>
          <a:xfrm>
            <a:off x="840600" y="640080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0.png"/>
          <p:cNvPicPr/>
          <p:nvPr/>
        </p:nvPicPr>
        <p:blipFill>
          <a:blip r:embed="rId8"/>
          <a:stretch/>
        </p:blipFill>
        <p:spPr>
          <a:xfrm>
            <a:off x="152280" y="60199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0.jpeg"/>
          <p:cNvPicPr/>
          <p:nvPr/>
        </p:nvPicPr>
        <p:blipFill>
          <a:blip r:embed="rId9"/>
          <a:stretch/>
        </p:blipFill>
        <p:spPr>
          <a:xfrm>
            <a:off x="685800" y="5410080"/>
            <a:ext cx="6094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45:26Z</dcterms:created>
  <dc:creator>FriscoISD</dc:creator>
  <dc:description/>
  <dc:language>en-US</dc:language>
  <cp:lastModifiedBy>User</cp:lastModifiedBy>
  <dcterms:modified xsi:type="dcterms:W3CDTF">2012-12-04T14:06:25Z</dcterms:modified>
  <cp:revision>103</cp:revision>
  <dc:subject/>
  <dc:title>Profile</dc:title>
</cp:coreProperties>
</file>